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D3B-35B1-442E-8DA9-2C9FE791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4E9-828D-418C-85A8-A79CA0EE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17F-9642-4C32-93A4-0DA195CD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611-5914-499C-8939-AB9F2355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587-208C-4D2C-AC85-B1CF0A86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6E4-4908-4B9F-839B-3D2691A4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084-11EB-4830-9259-989F9AE8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2E8-FB84-49D1-B27C-829A8871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6F7-DE4A-4688-A329-842BCC43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CEB-5AF7-4E46-BAD3-797ACD7B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8D0-0D55-4EA3-84DE-32DF701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F8A-EB55-440A-885D-CAA4A76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F921-5E97-44F5-8233-CEDCC64829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е обосн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4591080"/>
          <a:ext cx="7848720" cy="212400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о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нера (приме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Ольга</cp:lastModifiedBy>
  <dcterms:modified xsi:type="dcterms:W3CDTF">2023-01-31T18:36:57Z</dcterms:modified>
  <cp:revision>4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